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2.wmf" ContentType="image/x-wmf"/>
  <Override PartName="/ppt/media/image6.gif" ContentType="image/gif"/>
  <Override PartName="/ppt/media/image14.wmf" ContentType="image/x-wmf"/>
  <Override PartName="/ppt/media/image3.gif" ContentType="image/gif"/>
  <Override PartName="/ppt/media/image11.wmf" ContentType="image/x-wmf"/>
  <Override PartName="/ppt/media/image1.jpeg" ContentType="image/jpeg"/>
  <Override PartName="/ppt/media/image4.gif" ContentType="image/gif"/>
  <Override PartName="/ppt/media/image12.wmf" ContentType="image/x-wmf"/>
  <Override PartName="/ppt/media/image5.gif" ContentType="image/gif"/>
  <Override PartName="/ppt/media/image7.jpeg" ContentType="image/jpeg"/>
  <Override PartName="/ppt/media/image10.jpeg" ContentType="image/jpeg"/>
  <Override PartName="/ppt/media/image13.wmf" ContentType="image/x-wmf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F575B-60D2-4AAE-BDCD-24022FDAA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A3FD0-24FD-4F40-B847-8A8C4A8EE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D5C65-BCBA-4206-A5D6-F37759B29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C75D1-5FF3-4710-A9BB-2C57856AE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325C6C-0262-4D09-AFEA-F885DC073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C8C89C-E2F4-4283-9F4C-6EBD0F541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8E87C8-14C8-4834-9F22-C6DF84604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E2FE9E-1F73-40B4-8D76-3E5920EC6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B2EEA5-5EF5-4D01-A7B2-E4846573A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4D5446-09F9-4064-B902-D24995728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840445-BF0C-4636-8E99-66DEF7DC9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A5520-406E-45AB-AD20-ECF1E91A1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619181-9D21-4560-99C6-4DBC326B8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2693E6-B738-4A7F-AA4F-2DE271A92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2423AB-3D5F-43C9-9A14-1F9351BDC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2CE780-3E8F-42D5-AC7B-35D4ED457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F15E04-89BF-4B45-B610-1669BCC38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3D5B0-E33B-4C2B-8F6F-DEC3116AE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D522E-74B7-4E31-964F-24D76101C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BD3C5-28BE-4A9B-81B4-8F5A4A36C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7CFFC-9DD2-4C30-AEEC-B5548D982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A62E1-B69C-4678-BB45-B7E092A6F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CACA8-277B-415E-86CE-108EC1FE6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B8E22-4102-4997-996F-3281D3573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B95DD-9C38-40ED-AFB9-0EB1B41ECAA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>
              <a:gd name="textAreaLeft" fmla="*/ 0 w 1440"/>
              <a:gd name="textAreaRight" fmla="*/ 1800 w 1440"/>
              <a:gd name="textAreaTop" fmla="*/ 0 h 3035160"/>
              <a:gd name="textAreaBottom" fmla="*/ 3035520 h 3035160"/>
            </a:gdLst>
            <a:ahLst/>
            <a:rect l="textAreaLeft" t="textAreaTop" r="textAreaRight" b="textAreaBottom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A2A32-BF83-4E5F-8AF9-09A32EAF66D6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99640" y="333360"/>
            <a:ext cx="7486920" cy="2664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33cc"/>
                </a:solidFill>
                <a:latin typeface="Tahoma"/>
              </a:rPr>
              <a:t>Проект по физической культуре</a:t>
            </a:r>
            <a:r>
              <a:rPr b="0" lang="ru-RU" sz="4000" spc="-1" strike="noStrike">
                <a:solidFill>
                  <a:srgbClr val="ff33cc"/>
                </a:solidFill>
                <a:latin typeface="Tahoma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c6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c600"/>
                </a:solidFill>
                <a:latin typeface="Tahoma"/>
              </a:rPr>
              <a:t>Яранцева Алиса,5б класс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МОУ «Средняя общеобразовательная школа №10 г. Йошкар-Олы»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66"/>
                </a:solidFill>
                <a:latin typeface="Tahoma"/>
              </a:rPr>
              <a:t>2008год</a:t>
            </a:r>
            <a:r>
              <a:rPr b="0" lang="ru-RU" sz="2800" spc="-1" strike="noStrike">
                <a:solidFill>
                  <a:srgbClr val="666699"/>
                </a:solidFill>
                <a:latin typeface="Tahoma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0" y="26028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Еще одна разновидность плавания – самый молодой его вид – синхронное плавание. Синхронное плавание – это акробатические упражнения в воде, выполняемые под музыку. Это очень красивый вид плавания, зрители любуются на соревнованиях, как ритмично и четко выполняют участницы синхронного плавания различные акробатические фигуры под водой и над ее поверхностью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7" name="Picture 21" descr="Спорт"/>
          <p:cNvPicPr/>
          <p:nvPr/>
        </p:nvPicPr>
        <p:blipFill>
          <a:blip r:embed="rId1"/>
          <a:stretch/>
        </p:blipFill>
        <p:spPr>
          <a:xfrm>
            <a:off x="6804000" y="5300640"/>
            <a:ext cx="1655640" cy="140796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532720" y="-3890520"/>
            <a:ext cx="15408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50920" y="549000"/>
            <a:ext cx="813744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лаванье очень полезно для здоровья. Оно развивает  мышцы, координацию движений, укрепляет нервы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2268000" y="5845320"/>
            <a:ext cx="71640" cy="69840"/>
          </a:xfrm>
          <a:prstGeom prst="rect">
            <a:avLst/>
          </a:prstGeom>
          <a:noFill/>
          <a:ln w="0">
            <a:noFill/>
          </a:ln>
        </p:spPr>
        <p:txBody>
          <a:bodyPr tIns="24120" bIns="2412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Picture 16" descr="j0399418"/>
          <p:cNvPicPr/>
          <p:nvPr/>
        </p:nvPicPr>
        <p:blipFill>
          <a:blip r:embed="rId1"/>
          <a:stretch/>
        </p:blipFill>
        <p:spPr>
          <a:xfrm>
            <a:off x="1116000" y="2349360"/>
            <a:ext cx="7056360" cy="417528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979280" y="2204640"/>
            <a:ext cx="532908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66"/>
                </a:solidFill>
                <a:latin typeface="Tahoma"/>
              </a:rPr>
              <a:t>СПАСИБО ЗА ВНИМАНИЕ!!!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3" name="Picture 10" descr="j0397062"/>
          <p:cNvPicPr/>
          <p:nvPr/>
        </p:nvPicPr>
        <p:blipFill>
          <a:blip r:embed="rId1"/>
          <a:stretch/>
        </p:blipFill>
        <p:spPr>
          <a:xfrm>
            <a:off x="0" y="0"/>
            <a:ext cx="1400040" cy="14050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3" descr="j0319370"/>
          <p:cNvPicPr/>
          <p:nvPr/>
        </p:nvPicPr>
        <p:blipFill>
          <a:blip r:embed="rId2"/>
          <a:stretch/>
        </p:blipFill>
        <p:spPr>
          <a:xfrm>
            <a:off x="7696080" y="0"/>
            <a:ext cx="1447920" cy="13334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4" descr="j0312732"/>
          <p:cNvPicPr/>
          <p:nvPr/>
        </p:nvPicPr>
        <p:blipFill>
          <a:blip r:embed="rId3"/>
          <a:stretch/>
        </p:blipFill>
        <p:spPr>
          <a:xfrm>
            <a:off x="0" y="5581800"/>
            <a:ext cx="1585800" cy="12762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5" descr="j0197737"/>
          <p:cNvPicPr/>
          <p:nvPr/>
        </p:nvPicPr>
        <p:blipFill>
          <a:blip r:embed="rId4"/>
          <a:stretch/>
        </p:blipFill>
        <p:spPr>
          <a:xfrm>
            <a:off x="7726320" y="5229360"/>
            <a:ext cx="1417680" cy="16286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215" dur="2000" fill="hold"/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b4b9ea"/>
                </a:solidFill>
                <a:uFillTx/>
                <a:latin typeface="Tahoma"/>
              </a:rPr>
              <a:t>ПЛАВАНИЕ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6" name="Picture 4" descr="j0324506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1908000" y="1413000"/>
            <a:ext cx="5678640" cy="51130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8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8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8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8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Tahoma"/>
              </a:rPr>
              <a:t>Обо мне вкратце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475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Мне 11 лет, из них 9 лет я занимаюсь плаванием. Сейчас у меня 2-ой  взрослый разряд. Я пошла в спортивную школу в 6 лет. Вначале я ходила в «Дельфин», а сейчас я хожу во «Дворец водных видов спорта». Мой любимый стиль брасс. 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AutoShape 4"/>
          <p:cNvSpPr/>
          <p:nvPr/>
        </p:nvSpPr>
        <p:spPr>
          <a:xfrm flipH="1" rot="21479400">
            <a:off x="-1249560" y="2503440"/>
            <a:ext cx="71280" cy="73080"/>
          </a:xfrm>
          <a:custGeom>
            <a:avLst/>
            <a:gdLst>
              <a:gd name="textAreaLeft" fmla="*/ 16560 w 71280"/>
              <a:gd name="textAreaRight" fmla="*/ 54720 w 71280"/>
              <a:gd name="textAreaTop" fmla="*/ 7560 h 73080"/>
              <a:gd name="textAreaBottom" fmla="*/ 46440 h 7308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33cc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920" bIns="-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AutoShape 5"/>
          <p:cNvSpPr/>
          <p:nvPr/>
        </p:nvSpPr>
        <p:spPr>
          <a:xfrm>
            <a:off x="-468360" y="907920"/>
            <a:ext cx="71640" cy="217440"/>
          </a:xfrm>
          <a:prstGeom prst="lightningBol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0" bIns="21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32000" y="291960"/>
            <a:ext cx="73548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3366ff"/>
                </a:solidFill>
                <a:latin typeface="Tahoma"/>
              </a:rPr>
              <a:t>ПЛАВАНИЕ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626920" y="1628640"/>
            <a:ext cx="4103640" cy="43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310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Длинный бассейн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0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Голубая вода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0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а скорость плывём мы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0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Туда и сюд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0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Быстрее дельфина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0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Быстрее форел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0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лыву, чтоб мен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0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богнать не успел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0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Раз поворот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0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Два поворот..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0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Ужели соперник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0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Меня обойдёт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0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о нет, я не сдамс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0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Ему никогда!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0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Мой сказочный мир-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0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Голубая вод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Picture 7" descr="j0303466"/>
          <p:cNvPicPr/>
          <p:nvPr/>
        </p:nvPicPr>
        <p:blipFill>
          <a:blip r:embed="rId1"/>
          <a:stretch/>
        </p:blipFill>
        <p:spPr>
          <a:xfrm>
            <a:off x="5867280" y="2781360"/>
            <a:ext cx="280836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868480" y="291960"/>
            <a:ext cx="627552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00"/>
                </a:solidFill>
                <a:latin typeface="Tahoma"/>
              </a:rPr>
              <a:t>Плавание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cc"/>
                </a:solidFill>
                <a:latin typeface="Tahoma"/>
              </a:rPr>
              <a:t>Плавание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известно человеку с древнейших времён, оно возникло как необходимое для человека умение выживать, а популярным видом спорта стало только в прошлом веке. </a:t>
            </a:r>
            <a:r>
              <a:rPr b="0" lang="ru-RU" sz="3200" spc="-1" strike="noStrike">
                <a:solidFill>
                  <a:srgbClr val="ff33cc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Picture 5" descr="10d0ebae5003"/>
          <p:cNvPicPr/>
          <p:nvPr/>
        </p:nvPicPr>
        <p:blipFill>
          <a:blip r:embed="rId1"/>
          <a:stretch/>
        </p:blipFill>
        <p:spPr>
          <a:xfrm>
            <a:off x="6877080" y="620640"/>
            <a:ext cx="1079640" cy="10224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ейчас плавание входит в программу олимпийских игр. Пловцы соревнуются между собой на коротких и длинных дистанциях: самая короткая всего 25 метров, а самая длинная 1500 метров. Но, конечно, дорожек в 1500 метров нет, иначе пришлось бы строить бассейны длиной в целую улицу! Спортсмен, проплыв по своей дорожке от одного края бассейна до другого, должен совершить кувырок и поплыть в обратном направлении. И так несколько раз. При кувырке он, по правилам, обязательно должен коснуться руками и ногами стенки бассейна.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Picture 7" descr="j0318099"/>
          <p:cNvPicPr/>
          <p:nvPr/>
        </p:nvPicPr>
        <p:blipFill>
          <a:blip r:embed="rId1"/>
          <a:stretch/>
        </p:blipFill>
        <p:spPr>
          <a:xfrm>
            <a:off x="4859280" y="0"/>
            <a:ext cx="3240000" cy="218268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0" y="191628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уществует четыре вида плавания: вольный стиль (кроль), плавание на спине, брасс и баттерфляй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роль – самый быстрый вид плаванья. Тело пловца при плавании этим видом выпрямлено, а руки и ноги непрерывно работают, позволяя пловцу сохранять равновесие. Если смотреть в это время на спортсмена, то кажется, что он как будто ползет по земле, захватывая её то правой, то левой рукой, выброшенной вперёд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Picture 5" descr="j0303468"/>
          <p:cNvPicPr/>
          <p:nvPr/>
        </p:nvPicPr>
        <p:blipFill>
          <a:blip r:embed="rId1"/>
          <a:stretch/>
        </p:blipFill>
        <p:spPr>
          <a:xfrm>
            <a:off x="2627280" y="189000"/>
            <a:ext cx="3672000" cy="173016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0" y="333000"/>
            <a:ext cx="822960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Баттерфляй в переводе с английского языка обозначает «бабочка». И действительно, руки  пловца порхают над водой словно крылья. И ещё спортсмен, плывя баттерфляем, напоминает прыгающего над водой дельфина. Тело пловца при этом стиле совершает волнообразные движения, поэтому баттерфляй, пожалуй, самый красивый вид плаванья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3" name="Picture 5" descr="Урок плавания"/>
          <p:cNvPicPr/>
          <p:nvPr/>
        </p:nvPicPr>
        <p:blipFill>
          <a:blip r:embed="rId1"/>
          <a:stretch/>
        </p:blipFill>
        <p:spPr>
          <a:xfrm>
            <a:off x="2987640" y="4311720"/>
            <a:ext cx="3024360" cy="226692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0" y="40464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Брасс – самый простой и медленный вид плаванья, но позволяет экономно расходовать силы спортсмена. При плавании брассом спортсмен похож на лягушку. При движении он разводит руки сначала вперёд, потом в стороны, после чего вновь вытягивает их вперёд, а ногами он производит полукруговые движения, отталкиваясь от вод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Picture 5" descr="Олимп"/>
          <p:cNvPicPr/>
          <p:nvPr/>
        </p:nvPicPr>
        <p:blipFill>
          <a:blip r:embed="rId1"/>
          <a:stretch/>
        </p:blipFill>
        <p:spPr>
          <a:xfrm>
            <a:off x="2987640" y="4724280"/>
            <a:ext cx="2952720" cy="172908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1T17:25:08Z</dcterms:created>
  <dc:creator>Acer</dc:creator>
  <dc:description/>
  <dc:language>en-US</dc:language>
  <cp:lastModifiedBy>Ирина Петровна</cp:lastModifiedBy>
  <dcterms:modified xsi:type="dcterms:W3CDTF">2009-08-17T15:12:06Z</dcterms:modified>
  <cp:revision>13</cp:revision>
  <dc:subject/>
  <dc:title>Проект по физической культуре.</dc:title>
</cp:coreProperties>
</file>